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59F4-3FDC-4FC3-82F9-A01CF936FB2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652D-7C74-4CDC-98AF-A442C44E9F2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EAD2-F142-4FC5-8E20-6B0CF7D942E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AC33-9408-427B-9BF3-17F485F8A67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E03F-C931-471A-A613-65CE4EF9790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1AF7-3816-4038-B6EC-7BB3CB47A8C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87E1-3394-4A0D-9259-A710BE3DAF5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597B-965B-4AB7-B961-3AF967CF4AB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0ADB-9C87-4579-AB67-3B5455BAE96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DE6C-A9E0-4813-B25D-3F87513D659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F6EA-0377-4566-9D93-706D3AA020F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2E9D-EE73-4F64-86E9-8DD4233B367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BFD7-DB95-40B7-9B2A-4631D3E64DB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A27F-A30A-447A-8BAD-552040EDBBB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2F47-1967-4841-BB5B-5C6BDD917B1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45D5-A45A-4E97-9FB9-ED497E30AA0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DFA0-4E4A-464B-948C-376BFA59756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30A7-A2D7-4C61-9691-7DCF68F8641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6940-1411-4856-BF04-44FC7D275AC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E1A3-64D6-4672-B2EE-2F51F2DE503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8769-570A-43C2-A239-A4A4FDADDAC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595A-FB54-4C03-8A77-E122D5F5F0C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918A-94A4-4EB5-977B-9C7AF11162E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3907-AE51-4E86-8D5A-F269B1B3863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B4C7-E5F1-4D1E-9AC6-1313204C9F9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071-0C64-43DD-884C-E4B2E43BC4B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30F8-1782-46EB-9238-303857AF590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6649-3004-4C63-B65C-A6441DA5A7F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FD5B-1A78-4E70-AEA8-20B8A9FCA5D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3883-4D33-49DE-9FE9-B9D2CA8E5DB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883F-09A9-46E9-A2A6-96A92444C42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16C6-E0B5-43BB-B519-3C64F8A020B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9075-1E54-4924-9F96-771F52D2526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E39E-C045-478E-B7EA-E921F9A57DF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1290-AF3D-44BD-8813-3962CF2001C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306D-F9C9-44DE-B9B0-AC11D788266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1F0A-A63B-4A69-A6EE-29B189B8CF8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28CF-AD58-4A47-BC1D-2C40E4C4AA6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35E8-9865-4FC6-B14F-35F27C6A8CE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A983-D9C2-48F0-BEBE-67F5753B209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8186-592E-40E7-8EFE-076D5D4D208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8443-14B7-4F2D-AC9E-492F85F7798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C018-8672-4BB9-B2FE-594C3D89E65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35E1-8B83-4098-88A9-D5B9D7A0549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992F-4CC0-4E84-8512-417D7F652D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C6C5-EF0D-4708-968E-29211386E96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5041-6C69-4953-9391-D6621F2AE8D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8F8C-942B-48D8-9FE6-E8A0851E5D9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0163-1314-43B7-BC4D-4F41FB0568F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D4A6-B661-42E9-A9E0-0F789CACD1E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D0DF-2722-43FD-9275-4E695DF4B81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51C1-E157-4DCD-9CCF-37355DEFB65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1FC1-CA2D-4C02-98C8-041E920CDCC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5995-57A3-481A-9595-A60092FE750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AC55-CC06-45E2-AFD3-40A8D846E33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539A-F74A-4CCE-9E44-ECA3A64D9BA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9B05-8ACD-4F68-9BC5-7AE6A3D7458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4FE7-2A5C-4B76-81A8-CD4D7C8AF06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AA45-00CF-41E2-937C-8166FCE58F9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9A21-3350-44F5-B41D-DFECCA929B5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C52B-9F67-4A8E-9739-E1F826530F3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43F4-F189-4446-A2FF-0D07BEF89E2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3E89-ADAC-4FB8-84FF-80AD102ED5F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26FC-3798-4D0C-A51E-F9C8936A05B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54FC-C7F9-4DFF-A14B-23C35FE10B2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5BFD-B421-407D-9F0C-FB5A291C38C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5B0D-AC32-4303-AED3-0B77F799F2E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7597C-58AD-4762-B259-C095702DE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9B52-117A-4BA5-A297-11879C850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68D92-F3C6-43C2-8AA8-D452F44C6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14716-713F-4F69-B19E-39CCF254E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B1B2D-3F58-46B5-858F-DC8B84B35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46E3F-EB70-490E-ADE1-E141898D5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1C7F5-D765-461C-916D-C4FED3A4C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DD5B-BE5E-45C8-8DFA-BFCE05960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04EE-58D6-4B62-8A0A-6983D9B05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189E5-4EC5-4FAF-A633-B7E180CEF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5E21-E056-48C2-8D3F-77CF2DF3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1C03-AFA3-4449-9D8C-364589AF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D1352-7EF0-485E-AB8B-4DCB97493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1CB2-AD19-41AB-B359-A68D247E0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33196-4C07-4C1E-A037-6EDE64D7A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39533-1EDB-4FB0-AD44-A66BE0253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6A8D6-5D29-4A97-A409-A406F9663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0EE8-F102-4B14-903D-141F7204C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7225-B7A6-4910-8EC0-D1D699F64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12ED6-1A05-42E1-8734-CF3D6773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7095-558B-496C-A0AF-60C14B275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D179-8766-400E-BE4F-0B678FFD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CFAB-2B7B-4A85-B030-A31B2AEF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43D4-9579-4309-BFEA-3C1C13545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3017-37C8-47A5-A090-3DEA2DD0F0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06EB-5D81-4B30-A04D-D19B61FF50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191" name="Object 16"/>
              <p:cNvSpPr txBox="1"/>
              <p:nvPr/>
            </p:nvSpPr>
            <p:spPr>
              <a:xfrm>
                <a:off x="3059280" y="4572000"/>
                <a:ext cx="3025440" cy="1979640"/>
              </a:xfrm>
              <a:prstGeom prst="rect">
                <a:avLst/>
              </a:prstGeom>
            </p:spPr>
            <p:txBody>
              <a:bodyPr/>
              <a:p>
                <a14:m>
                  <m:oMath xmlns:m="http://schemas.openxmlformats.org/officeDocument/2006/math">
                    <m:r>
                      <m:t xml:space="preserve">v</m:t>
                    </m:r>
                    <m:r>
                      <m:rPr>
                        <m:lit/>
                        <m:nor/>
                      </m:rPr>
                      <m:t xml:space="preserve">ave</m:t>
                    </m:r>
                    <m:r>
                      <m:t xml:space="preserve">=</m:t>
                    </m:r>
                    <m:f>
                      <m:num>
                        <m:r>
                          <m:t xml:space="preserve">Δd</m:t>
                        </m:r>
                      </m:num>
                      <m:den>
                        <m:r>
                          <m:t xml:space="preserve">Δt</m:t>
                        </m:r>
                      </m:den>
                    </m:f>
                  </m:oMath>
                </a14:m>
              </a:p>
            </p:txBody>
          </p:sp>
        </mc:Choice>
        <mc:Fallback/>
      </mc:AlternateContent>
      <p:sp>
        <p:nvSpPr>
          <p:cNvPr id="192"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Line 20"/>
          <p:cNvSpPr/>
          <p:nvPr/>
        </p:nvSpPr>
        <p:spPr>
          <a:xfrm>
            <a:off x="320040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i bikes to school, a total displacement of 450.0 m (SW).  She has to slow down twice to cross busy streets, but overall the journey takes her 1080 seconds.  What is Keri’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d = 450.0 m</a:t>
            </a: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 = 1080 s</a:t>
            </a: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ave</a:t>
            </a:r>
            <a:r>
              <a:rPr b="0" lang="en-US" sz="2800" spc="-1" strike="noStrike">
                <a:solidFill>
                  <a:srgbClr val="000000"/>
                </a:solidFill>
                <a:latin typeface="Verdana"/>
              </a:rPr>
              <a:t> =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450 m/1080 s</a:t>
            </a:r>
            <a:endParaRPr b="0" lang="en-US" sz="2800" spc="-1" strike="noStrike">
              <a:solidFill>
                <a:srgbClr val="000000"/>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av</a:t>
            </a:r>
            <a:r>
              <a:rPr b="0" lang="en-US" sz="2800" spc="-1" strike="noStrike">
                <a:solidFill>
                  <a:srgbClr val="000000"/>
                </a:solidFill>
                <a:latin typeface="Verdana"/>
              </a:rPr>
              <a:t> = 0.417 m/s </a:t>
            </a:r>
            <a:endParaRPr b="0" lang="en-US" sz="2800" spc="-1" strike="noStrike">
              <a:solidFill>
                <a:srgbClr val="000000"/>
              </a:solidFill>
              <a:latin typeface="Verdana"/>
            </a:endParaRPr>
          </a:p>
        </p:txBody>
      </p:sp>
      <p:sp>
        <p:nvSpPr>
          <p:cNvPr id="2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3" name="Object 4"/>
              <p:cNvSpPr txBox="1"/>
              <p:nvPr/>
            </p:nvSpPr>
            <p:spPr>
              <a:xfrm>
                <a:off x="685800" y="1363680"/>
                <a:ext cx="1828800" cy="124920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
        <p:nvSpPr>
          <p:cNvPr id="20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5" name="Object 6"/>
              <p:cNvSpPr txBox="1"/>
              <p:nvPr/>
            </p:nvSpPr>
            <p:spPr>
              <a:xfrm>
                <a:off x="838080" y="3959280"/>
                <a:ext cx="1371600" cy="93672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ura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1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1" name="Object 4"/>
              <p:cNvSpPr txBox="1"/>
              <p:nvPr/>
            </p:nvSpPr>
            <p:spPr>
              <a:xfrm>
                <a:off x="762120" y="1612800"/>
                <a:ext cx="2514600" cy="171792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rek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7" name="Object 4"/>
              <p:cNvSpPr txBox="1"/>
              <p:nvPr/>
            </p:nvSpPr>
            <p:spPr>
              <a:xfrm>
                <a:off x="990720" y="2666880"/>
                <a:ext cx="2057400" cy="140508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ron is riding a cow at a velocity of 0.005 m/s for a period of 15552000s.  How far did Aaron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ly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5"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3"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 = </a:t>
            </a:r>
            <a:r>
              <a:rPr b="1" lang="en-US" sz="4000" spc="-1" strike="noStrike" u="sng">
                <a:solidFill>
                  <a:srgbClr val="000000"/>
                </a:solidFill>
                <a:uFillTx/>
                <a:latin typeface="Verdana"/>
              </a:rPr>
              <a:t>(v</a:t>
            </a:r>
            <a:r>
              <a:rPr b="1" lang="en-US" sz="4000" spc="-1" strike="noStrike" u="sng" baseline="-25000">
                <a:solidFill>
                  <a:srgbClr val="000000"/>
                </a:solidFill>
                <a:uFillTx/>
                <a:latin typeface="Verdana"/>
              </a:rPr>
              <a:t>f</a:t>
            </a:r>
            <a:r>
              <a:rPr b="1" lang="en-US" sz="4000" spc="-1" strike="noStrike" u="sng">
                <a:solidFill>
                  <a:srgbClr val="000000"/>
                </a:solidFill>
                <a:uFillTx/>
                <a:latin typeface="Verdana"/>
              </a:rPr>
              <a:t> + v</a:t>
            </a:r>
            <a:r>
              <a:rPr b="1" lang="en-US" sz="4000" spc="-1" strike="noStrike" u="sng" baseline="-25000">
                <a:solidFill>
                  <a:srgbClr val="000000"/>
                </a:solidFill>
                <a:uFillTx/>
                <a:latin typeface="Verdana"/>
              </a:rPr>
              <a:t>i</a:t>
            </a:r>
            <a:r>
              <a:rPr b="1" lang="en-US" sz="4000" spc="-1" strike="noStrike" u="sng">
                <a:solidFill>
                  <a:srgbClr val="000000"/>
                </a:solidFill>
                <a:uFillTx/>
                <a:latin typeface="Verdana"/>
              </a:rPr>
              <a:t>)</a:t>
            </a:r>
            <a:r>
              <a:rPr b="1" lang="en-US" sz="4000" spc="-1" strike="noStrike">
                <a:solidFill>
                  <a:srgbClr val="000000"/>
                </a:solidFill>
                <a:latin typeface="Verdana"/>
              </a:rPr>
              <a:t>  t</a:t>
            </a:r>
            <a:endParaRPr b="0" lang="en-US" sz="4000" spc="-1" strike="noStrike">
              <a:solidFill>
                <a:srgbClr val="000000"/>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2</a:t>
            </a:r>
            <a:endParaRPr b="0" lang="en-US" sz="40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a:solidFill>
                  <a:srgbClr val="000000"/>
                </a:solidFill>
                <a:latin typeface="Verdana"/>
              </a:rPr>
              <a:t> = fin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i</a:t>
            </a:r>
            <a:r>
              <a:rPr b="0" lang="en-US" sz="2800" spc="-1" strike="noStrike">
                <a:solidFill>
                  <a:srgbClr val="000000"/>
                </a:solidFill>
                <a:latin typeface="Verdana"/>
              </a:rPr>
              <a:t> = initi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risten is sitting at a red light in her red corvette.  The light turns green and Kristen instantaneously guns the engine of her car.  If 10 seconds later Kristen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a:t>
            </a:r>
            <a:r>
              <a:rPr b="0" lang="en-US" sz="3200" spc="-1" strike="noStrike" u="sng">
                <a:solidFill>
                  <a:srgbClr val="000000"/>
                </a:solidFill>
                <a:uFillTx/>
                <a:latin typeface="Verdana"/>
              </a:rPr>
              <a:t>(25 m/s + 0 m/s)</a:t>
            </a:r>
            <a:r>
              <a:rPr b="0" lang="en-US" sz="3200" spc="-1" strike="noStrike">
                <a:solidFill>
                  <a:srgbClr val="000000"/>
                </a:solidFill>
                <a:latin typeface="Verdana"/>
              </a:rPr>
              <a:t> 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ndan and Amber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Brendan and Amber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ke and Brandon are driving in Sussex at 60 km/h towards Apohauqui.  Brandon spots a </a:t>
            </a:r>
            <a:r>
              <a:rPr b="1" lang="en-US" sz="3200" spc="-1" strike="noStrike">
                <a:solidFill>
                  <a:srgbClr val="000000"/>
                </a:solidFill>
                <a:latin typeface="Verdana"/>
              </a:rPr>
              <a:t>huge</a:t>
            </a:r>
            <a:r>
              <a:rPr b="0" lang="en-US" sz="3200" spc="-1" strike="noStrike">
                <a:solidFill>
                  <a:srgbClr val="000000"/>
                </a:solidFill>
                <a:latin typeface="Verdana"/>
              </a:rPr>
              <a:t> pothole in the road and slows down to a velocity of 20 km/h to drive through the pothole. If 30 seconds later the boys have driven over the pothole, what was their displacement from the time that Brandon first noticed the potho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lise is walking towards the mall at a velocity of 0.4 m/s.  She sees a 50% off sale sign in the window and starts running towards the store.  If her final velocity is 1.3 m/s (she is wearing stilettos).  If the displacement between the store and where she spotted the sign is 0.6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in and Corey are snowboarding at Poley Mountain.  If at the top of the hill they are traveling at a velocity of 3 m/s and it takes them a total time of 2 minutes to reach the bottom of the hill, a displacement of 500 m.  How fast were Colin and Corey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is traveling at a  velocity of 0.6 m/s at the end of the trail and it took her a 2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ckson is driving towards the train station with a velocity of 30 m/s.  If it takes Jackson 10 minutes to reach and stop at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ly is riding her bike to the local KFC.  It takes Sally 10 min to reach KFC which is 4.7 km away.  What is Sa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8"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61"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62"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66"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68"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73"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74"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75"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76"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79"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4"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5"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6"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7"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8"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5"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296"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7"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8"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9"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0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0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0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09"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2"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4"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7"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8"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9"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20"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25"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6" name="Object 30"/>
          <p:cNvGraphicFramePr/>
          <p:nvPr/>
        </p:nvGraphicFramePr>
        <p:xfrm>
          <a:off x="2611440" y="1579680"/>
          <a:ext cx="6281640" cy="3922560"/>
        </p:xfrm>
        <a:graphic>
          <a:graphicData uri="http://schemas.openxmlformats.org/presentationml/2006/ole">
            <p:oleObj r:id="rId1" spid="">
              <p:embed/>
              <p:pic>
                <p:nvPicPr>
                  <p:cNvPr id="327"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and is calculated by the ratio of the change in velocity (∆v) to the time interval (∆t) during which this change occurred.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the same change in speed (∆v) occurs in each equal interval of time (∆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a:t>
            </a:r>
            <a:r>
              <a:rPr b="1" lang="en-US" sz="2400" spc="-1" strike="noStrike" baseline="-25000">
                <a:solidFill>
                  <a:srgbClr val="003399"/>
                </a:solidFill>
                <a:latin typeface="Verdana"/>
              </a:rPr>
              <a:t>av</a:t>
            </a:r>
            <a:r>
              <a:rPr b="1" lang="en-US" sz="2400" spc="-1" strike="noStrike">
                <a:solidFill>
                  <a:srgbClr val="003399"/>
                </a:solidFill>
                <a:latin typeface="Verdana"/>
              </a:rPr>
              <a:t>)</a:t>
            </a:r>
            <a:r>
              <a:rPr b="0" lang="en-US" sz="2400" spc="-1" strike="noStrike">
                <a:solidFill>
                  <a:srgbClr val="000000"/>
                </a:solidFill>
                <a:latin typeface="Verdana"/>
              </a:rPr>
              <a:t> – is the average rate of change in velocity of an object.</a:t>
            </a:r>
            <a:endParaRPr b="0" lang="en-US" sz="2400" spc="-1" strike="noStrike">
              <a:solidFill>
                <a:srgbClr val="000000"/>
              </a:solidFill>
              <a:latin typeface="Verdana"/>
            </a:endParaRPr>
          </a:p>
        </p:txBody>
      </p:sp>
      <p:sp>
        <p:nvSpPr>
          <p:cNvPr id="33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33" name="Object 4"/>
              <p:cNvSpPr txBox="1"/>
              <p:nvPr/>
            </p:nvSpPr>
            <p:spPr>
              <a:xfrm>
                <a:off x="3657600" y="2955960"/>
                <a:ext cx="1600200" cy="128412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stin accelerates at an average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is his change in velocity at the end of 1.5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a:t>
            </a:r>
            <a:r>
              <a:rPr b="1" lang="en-US" sz="3200" spc="-1" strike="noStrike" baseline="-25000">
                <a:solidFill>
                  <a:srgbClr val="000000"/>
                </a:solidFill>
                <a:latin typeface="Verdana"/>
              </a:rPr>
              <a:t>f</a:t>
            </a:r>
            <a:r>
              <a:rPr b="1" lang="en-US" sz="3200" spc="-1" strike="noStrike">
                <a:solidFill>
                  <a:srgbClr val="000000"/>
                </a:solidFill>
                <a:latin typeface="Verdana"/>
              </a:rPr>
              <a:t> - x</a:t>
            </a:r>
            <a:r>
              <a:rPr b="1" lang="en-US" sz="3200" spc="-1" strike="noStrike" baseline="-25000">
                <a:solidFill>
                  <a:srgbClr val="000000"/>
                </a:solidFill>
                <a:latin typeface="Verdana"/>
              </a:rPr>
              <a:t>i</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f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i</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a∆t</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3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39" name="Object 4"/>
              <p:cNvSpPr txBox="1"/>
              <p:nvPr/>
            </p:nvSpPr>
            <p:spPr>
              <a:xfrm>
                <a:off x="990720" y="1523880"/>
                <a:ext cx="1981080" cy="159408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yan M. is skateboarding down a hill and changes his velocity from rest to 1.9m/s.  If the average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was Ryan on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40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1.9 m/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4.8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nnon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h and Sam are best friends who are skiing at Poley.  If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ddy is horse back riding down Main Street.  Madd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Mad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end of the octagon to the other.  If it takes Kimbo Slice 500 s to cover the 12 m.  What was Kimbo Slice’s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ining the Acceleration Equation</a:t>
            </a:r>
            <a:endParaRPr b="0" lang="en-US" sz="40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the initial velocity v</a:t>
            </a:r>
            <a:r>
              <a:rPr b="0" lang="en-US" sz="3200" spc="-1" strike="noStrike" baseline="-25000">
                <a:solidFill>
                  <a:srgbClr val="000000"/>
                </a:solidFill>
                <a:latin typeface="Verdana"/>
              </a:rPr>
              <a:t>i</a:t>
            </a:r>
            <a:r>
              <a:rPr b="0" lang="en-US" sz="3200" spc="-1" strike="noStrike">
                <a:solidFill>
                  <a:srgbClr val="000000"/>
                </a:solidFill>
                <a:latin typeface="Verdana"/>
              </a:rPr>
              <a:t> and the final velocity v</a:t>
            </a:r>
            <a:r>
              <a:rPr b="0" lang="en-US" sz="3200" spc="-1" strike="noStrike" baseline="-25000">
                <a:solidFill>
                  <a:srgbClr val="000000"/>
                </a:solidFill>
                <a:latin typeface="Verdana"/>
              </a:rPr>
              <a:t>f</a:t>
            </a:r>
            <a:r>
              <a:rPr b="0" lang="en-US" sz="3200" spc="-1" strike="noStrike">
                <a:solidFill>
                  <a:srgbClr val="000000"/>
                </a:solidFill>
                <a:latin typeface="Verdana"/>
              </a:rPr>
              <a:t> affect your acceleratio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v = v</a:t>
            </a:r>
            <a:r>
              <a:rPr b="0" lang="en-US" sz="2800" spc="-1" strike="noStrike" baseline="-25000">
                <a:solidFill>
                  <a:srgbClr val="000000"/>
                </a:solidFill>
                <a:latin typeface="Verdana"/>
              </a:rPr>
              <a:t>f </a:t>
            </a:r>
            <a:r>
              <a:rPr b="0" lang="en-US" sz="2800" spc="-1" strike="noStrike">
                <a:solidFill>
                  <a:srgbClr val="000000"/>
                </a:solidFill>
                <a:latin typeface="Verdana"/>
              </a:rPr>
              <a:t>– v</a:t>
            </a:r>
            <a:r>
              <a:rPr b="0" lang="en-US" sz="2800" spc="-1" strike="noStrike" baseline="-25000">
                <a:solidFill>
                  <a:srgbClr val="000000"/>
                </a:solidFill>
                <a:latin typeface="Verdana"/>
              </a:rPr>
              <a:t>i</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cceleration equation can now be written a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1" name="Object 4"/>
              <p:cNvSpPr txBox="1"/>
              <p:nvPr/>
            </p:nvSpPr>
            <p:spPr>
              <a:xfrm>
                <a:off x="3467160" y="5029200"/>
                <a:ext cx="1979640" cy="1222200"/>
              </a:xfrm>
              <a:prstGeom prst="rect">
                <a:avLst/>
              </a:prstGeom>
            </p:spPr>
            <p:txBody>
              <a:bodyPr/>
              <a:p>
                <a14:m>
                  <m:oMath xmlns:m="http://schemas.openxmlformats.org/officeDocument/2006/math">
                    <m:r>
                      <m:t xml:space="preserve">a</m:t>
                    </m:r>
                    <m:r>
                      <m:t xml:space="preserve">=</m:t>
                    </m:r>
                    <m:f>
                      <m:num>
                        <m:r>
                          <m:t xml:space="preserve">v</m:t>
                        </m:r>
                        <m:r>
                          <m:t xml:space="preserve">f</m:t>
                        </m:r>
                        <m:r>
                          <m:t xml:space="preserve">−</m:t>
                        </m:r>
                        <m:r>
                          <m:t xml:space="preserve">v</m:t>
                        </m:r>
                        <m:r>
                          <m:t xml:space="preserve">i</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m/s near the top of a hill. 4.2 s later she is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7" name="Object 4"/>
              <p:cNvSpPr txBox="1"/>
              <p:nvPr/>
            </p:nvSpPr>
            <p:spPr>
              <a:xfrm>
                <a:off x="838080" y="3809880"/>
                <a:ext cx="2133720" cy="1268640"/>
              </a:xfrm>
              <a:prstGeom prst="rect">
                <a:avLst/>
              </a:prstGeom>
            </p:spPr>
            <p:txBody>
              <a:bodyPr/>
              <a:p>
                <a14:m>
                  <m:oMath xmlns:m="http://schemas.openxmlformats.org/officeDocument/2006/math">
                    <m:r>
                      <m:t xml:space="preserve">a</m:t>
                    </m:r>
                    <m:r>
                      <m:t xml:space="preserve">=</m:t>
                    </m:r>
                    <m:f>
                      <m:num>
                        <m:r>
                          <m:t xml:space="preserve">v</m:t>
                        </m:r>
                        <m:r>
                          <m:t xml:space="preserve">2</m:t>
                        </m:r>
                        <m:r>
                          <m:t xml:space="preserve">−</m:t>
                        </m:r>
                        <m:r>
                          <m:t xml:space="preserve">v</m:t>
                        </m:r>
                        <m:r>
                          <m:t xml:space="preserve">1</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bus with an initial velocity of 12m/s accelerates at 0.62 m/s</a:t>
            </a:r>
            <a:r>
              <a:rPr b="0" lang="en-US" sz="3200" spc="-1" strike="noStrike" baseline="30000">
                <a:solidFill>
                  <a:srgbClr val="000000"/>
                </a:solidFill>
                <a:latin typeface="Verdana"/>
              </a:rPr>
              <a:t>2</a:t>
            </a:r>
            <a:r>
              <a:rPr b="0" lang="en-US" sz="3200" spc="-1" strike="noStrike">
                <a:solidFill>
                  <a:srgbClr val="000000"/>
                </a:solidFill>
                <a:latin typeface="Verdana"/>
              </a:rPr>
              <a:t> for 15 s.  What is the final velocity of the b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2 m/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62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5 s</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21 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acceleration?</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0</a:t>
            </a:r>
            <a:endParaRPr b="0" lang="en-US" sz="3200" spc="-1" strike="noStrike">
              <a:solidFill>
                <a:srgbClr val="000000"/>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5.0 s </a:t>
            </a:r>
            <a:endParaRPr b="0" lang="en-US" sz="3200" spc="-1" strike="noStrike">
              <a:solidFill>
                <a:srgbClr val="000000"/>
              </a:solidFill>
              <a:latin typeface="Verdan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ick is walking down the street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ing Acceleration when given a Displacement</a:t>
            </a:r>
            <a:endParaRPr b="0" lang="en-US" sz="40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baseline="30000">
                <a:solidFill>
                  <a:srgbClr val="000000"/>
                </a:solidFill>
                <a:latin typeface="Verdana"/>
              </a:rPr>
              <a:t>2</a:t>
            </a:r>
            <a:r>
              <a:rPr b="0" lang="en-US" sz="2800" spc="-1" strike="noStrike">
                <a:solidFill>
                  <a:srgbClr val="000000"/>
                </a:solidFill>
                <a:latin typeface="Verdana"/>
              </a:rPr>
              <a:t> = v</a:t>
            </a:r>
            <a:r>
              <a:rPr b="0" lang="en-US" sz="2800" spc="-1" strike="noStrike" baseline="-25000">
                <a:solidFill>
                  <a:srgbClr val="000000"/>
                </a:solidFill>
                <a:latin typeface="Verdana"/>
              </a:rPr>
              <a:t>i</a:t>
            </a:r>
            <a:r>
              <a:rPr b="0" lang="en-US" sz="2800" spc="-1" strike="noStrike" baseline="30000">
                <a:solidFill>
                  <a:srgbClr val="000000"/>
                </a:solidFill>
                <a:latin typeface="Verdana"/>
              </a:rPr>
              <a:t>2</a:t>
            </a:r>
            <a:r>
              <a:rPr b="0" lang="en-US" sz="2800" spc="-1" strike="noStrike">
                <a:solidFill>
                  <a:srgbClr val="000000"/>
                </a:solidFill>
                <a:latin typeface="Verdana"/>
              </a:rPr>
              <a:t> + 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i</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v</a:t>
            </a:r>
            <a:r>
              <a:rPr b="0" lang="en-US" sz="2800" spc="-1" strike="noStrike" baseline="-25000">
                <a:solidFill>
                  <a:srgbClr val="000000"/>
                </a:solidFill>
                <a:latin typeface="Times New Roman"/>
                <a:ea typeface="Times New Roman"/>
              </a:rPr>
              <a:t>f</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0" lang="en-US" sz="2800" spc="-1" strike="noStrike">
                <a:solidFill>
                  <a:srgbClr val="000000"/>
                </a:solidFill>
                <a:latin typeface="Verdana"/>
              </a:rPr>
              <a:t>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in is biking to the local swimming hole which is 20 km away.  If he begins his trek traveling at a velocity of 15 km/h and he accelerates at a rate of 0.03m/s</a:t>
            </a:r>
            <a:r>
              <a:rPr b="0" lang="en-US" sz="3200" spc="-1" strike="noStrike" baseline="30000">
                <a:solidFill>
                  <a:srgbClr val="000000"/>
                </a:solidFill>
                <a:latin typeface="Verdana"/>
              </a:rPr>
              <a:t>2</a:t>
            </a:r>
            <a:r>
              <a:rPr b="0" lang="en-US" sz="3200" spc="-1" strike="noStrike">
                <a:solidFill>
                  <a:srgbClr val="000000"/>
                </a:solidFill>
                <a:latin typeface="Verdana"/>
              </a:rPr>
              <a:t>.  What is Justin’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 m/s near the top of a hill. 40 m later she is traveling at 8.3 m/s.  What is her average acceleration?</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dsay is traveling to Moncton with her friends to go shopping.  If the car is initially traveling at a velocity of 45 m/s for 100 km.  When they reach their destination they are traveling at a velocity of 0 m/s, what is the rate of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ook</cp:lastModifiedBy>
  <dcterms:modified xsi:type="dcterms:W3CDTF">2010-12-02T18:19:52Z</dcterms:modified>
  <cp:revision>99</cp:revision>
  <dc:subject/>
  <dc:title>UNIT 4</dc:title>
</cp:coreProperties>
</file>